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4038D-2F0A-4B90-81CB-0967FE480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2C520-1975-4427-A60D-2522E4476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DBD05-E4DD-47AD-80BE-D0CC73B38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828F8-0908-4DF2-8887-0128E96C7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CABB6-F5A0-4979-8B3F-823064F71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D58FC-DF1F-4D71-92C6-0AC25456A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E373D-5D6D-4898-9AA6-84695E693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DB517-95F9-4BB2-A4AD-C190CE9B3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1B876-3E4E-4A99-B4B9-C12FAE742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14E62-3CBC-42C2-B453-74E799FD1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40EF0-F1F7-4B0C-B5FA-7B9D7AFF1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4E8C8-759F-49FE-97E6-04FB05047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CC6BC-4A8F-460D-8462-59165DAE79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1dae1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ooper Black"/>
              </a:rPr>
              <a:t>A large area of flat land or nearly flat land i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a place in the desert made fertile by a steady supply of water is?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2057040" y="2057400"/>
            <a:ext cx="4419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ste image he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TextBox 6"/>
          <p:cNvSpPr/>
          <p:nvPr/>
        </p:nvSpPr>
        <p:spPr>
          <a:xfrm>
            <a:off x="6781680" y="350532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a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6" descr="http://t2.gstatic.com/images?q=tbn:ANd9GcTgMNVwXnFV3RO-tXr-GZEHRV-xHQiJqu0QL7eFVk2Y5s7aVfmM3A"/>
          <p:cNvPicPr/>
          <p:nvPr/>
        </p:nvPicPr>
        <p:blipFill>
          <a:blip r:embed="rId1"/>
          <a:stretch/>
        </p:blipFill>
        <p:spPr>
          <a:xfrm>
            <a:off x="0" y="1295280"/>
            <a:ext cx="68724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5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 series of connected mountains is?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1980720" y="1981080"/>
            <a:ext cx="4419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ste image he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Box 6"/>
          <p:cNvSpPr/>
          <p:nvPr/>
        </p:nvSpPr>
        <p:spPr>
          <a:xfrm>
            <a:off x="7010280" y="350532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untain r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" descr="http://t1.gstatic.com/images?q=tbn:ANd9GcRInA-inBSIU_Q8vwxG5A2LPjLsj_B0FeaTQdsLyRWruW54qupX"/>
          <p:cNvPicPr/>
          <p:nvPr/>
        </p:nvPicPr>
        <p:blipFill>
          <a:blip r:embed="rId1"/>
          <a:stretch/>
        </p:blipFill>
        <p:spPr>
          <a:xfrm>
            <a:off x="0" y="1219320"/>
            <a:ext cx="708660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ritical Thinking Slide #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-360" y="762120"/>
            <a:ext cx="89917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sk a HIGHER level question combining two or more term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ample:  How is a strait similar to an isthmus?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2" descr="http://www.worldatlas.com/aatlas/infopage/hormuz.gif"/>
          <p:cNvPicPr/>
          <p:nvPr/>
        </p:nvPicPr>
        <p:blipFill>
          <a:blip r:embed="rId1"/>
          <a:stretch/>
        </p:blipFill>
        <p:spPr>
          <a:xfrm>
            <a:off x="304920" y="3427560"/>
            <a:ext cx="3200400" cy="31939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4" descr="http://www.nasa.gov/images/content/150519main_image_feature_595_ys_4.jpg"/>
          <p:cNvPicPr/>
          <p:nvPr/>
        </p:nvPicPr>
        <p:blipFill>
          <a:blip r:embed="rId2"/>
          <a:stretch/>
        </p:blipFill>
        <p:spPr>
          <a:xfrm>
            <a:off x="5181480" y="3429000"/>
            <a:ext cx="3962520" cy="2971800"/>
          </a:xfrm>
          <a:prstGeom prst="rect">
            <a:avLst/>
          </a:prstGeom>
          <a:ln w="0">
            <a:noFill/>
          </a:ln>
        </p:spPr>
      </p:pic>
      <p:cxnSp>
        <p:nvCxnSpPr>
          <p:cNvPr id="88" name="Straight Arrow Connector 7"/>
          <p:cNvCxnSpPr/>
          <p:nvPr/>
        </p:nvCxnSpPr>
        <p:spPr>
          <a:xfrm flipH="1">
            <a:off x="2208960" y="4190040"/>
            <a:ext cx="1677240" cy="5338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89" name="Straight Arrow Connector 8"/>
          <p:cNvCxnSpPr/>
          <p:nvPr/>
        </p:nvCxnSpPr>
        <p:spPr>
          <a:xfrm>
            <a:off x="4038120" y="4191120"/>
            <a:ext cx="2057760" cy="38160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90" name="TextBox 10"/>
          <p:cNvSpPr/>
          <p:nvPr/>
        </p:nvSpPr>
        <p:spPr>
          <a:xfrm>
            <a:off x="3581280" y="34290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Arro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ight Arrow 11"/>
          <p:cNvSpPr/>
          <p:nvPr/>
        </p:nvSpPr>
        <p:spPr>
          <a:xfrm>
            <a:off x="4419720" y="5105520"/>
            <a:ext cx="1066680" cy="152280"/>
          </a:xfrm>
          <a:prstGeom prst="rightArrow">
            <a:avLst>
              <a:gd name="adj1" fmla="val 50000"/>
              <a:gd name="adj2" fmla="val 50038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12"/>
          <p:cNvSpPr/>
          <p:nvPr/>
        </p:nvSpPr>
        <p:spPr>
          <a:xfrm>
            <a:off x="685800" y="2362320"/>
            <a:ext cx="7238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e answer here.  Be sure to delete directions on each sli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ritical Thinking Slide #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-360" y="1066680"/>
            <a:ext cx="89917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w is a plateau  different  butte ?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9"/>
          <p:cNvSpPr/>
          <p:nvPr/>
        </p:nvSpPr>
        <p:spPr>
          <a:xfrm>
            <a:off x="685800" y="3352680"/>
            <a:ext cx="7238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teaus are really big and butte is very  small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ritical Thinking Slide #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914400"/>
            <a:ext cx="89917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w are mountains the same from volcano's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extBox 5"/>
          <p:cNvSpPr/>
          <p:nvPr/>
        </p:nvSpPr>
        <p:spPr>
          <a:xfrm flipH="1">
            <a:off x="1555200" y="1981080"/>
            <a:ext cx="499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y both are big and can have a lot of rock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ritical Thinking Slide #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-360" y="990720"/>
            <a:ext cx="89917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TextBox 4"/>
          <p:cNvSpPr/>
          <p:nvPr/>
        </p:nvSpPr>
        <p:spPr>
          <a:xfrm>
            <a:off x="838080" y="685800"/>
            <a:ext cx="731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are deserts and oasis the s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6"/>
          <p:cNvSpPr/>
          <p:nvPr/>
        </p:nvSpPr>
        <p:spPr>
          <a:xfrm>
            <a:off x="2057400" y="2133720"/>
            <a:ext cx="32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both dry and  can be hot or cool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2" descr="C:\Documents and Settings\ISLPT160\Local Settings\Temporary Internet Files\Content.IE5\INHF4ZLX\MP900313889[1]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TextBox 4"/>
          <p:cNvSpPr/>
          <p:nvPr/>
        </p:nvSpPr>
        <p:spPr>
          <a:xfrm>
            <a:off x="2057400" y="2895480"/>
            <a:ext cx="3962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plai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0720" y="228240"/>
            <a:ext cx="8229600" cy="152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int of land that extends into a river, lake, or ocea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Box 5"/>
          <p:cNvSpPr/>
          <p:nvPr/>
        </p:nvSpPr>
        <p:spPr>
          <a:xfrm>
            <a:off x="6934320" y="3657600"/>
            <a:ext cx="213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http://2.bp.blogspot.com/_dV5cU-6GH80/TSTqR06WgyI/AAAAAAAAADo/w1c8eWBdpEk/s1600/cape-york-peninsula-40.jpg"/>
          <p:cNvPicPr/>
          <p:nvPr/>
        </p:nvPicPr>
        <p:blipFill>
          <a:blip r:embed="rId1"/>
          <a:stretch/>
        </p:blipFill>
        <p:spPr>
          <a:xfrm>
            <a:off x="0" y="1752480"/>
            <a:ext cx="655308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what is the place where a river begins?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057040" y="2057400"/>
            <a:ext cx="4419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6"/>
          <p:cNvSpPr/>
          <p:nvPr/>
        </p:nvSpPr>
        <p:spPr>
          <a:xfrm>
            <a:off x="6781680" y="350532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u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2" descr="http://www.northgeorgiawater.org/images/stormwater_source_water_tmdl.jpg"/>
          <p:cNvPicPr/>
          <p:nvPr/>
        </p:nvPicPr>
        <p:blipFill>
          <a:blip r:embed="rId1"/>
          <a:stretch/>
        </p:blipFill>
        <p:spPr>
          <a:xfrm>
            <a:off x="0" y="1295280"/>
            <a:ext cx="670572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untain created as liquid rock and ash erupt from the inside the earth is?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2057040" y="2057400"/>
            <a:ext cx="4419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Box 6"/>
          <p:cNvSpPr/>
          <p:nvPr/>
        </p:nvSpPr>
        <p:spPr>
          <a:xfrm>
            <a:off x="6629400" y="3429000"/>
            <a:ext cx="2133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7"/>
          <p:cNvSpPr/>
          <p:nvPr/>
        </p:nvSpPr>
        <p:spPr>
          <a:xfrm>
            <a:off x="6934320" y="3657600"/>
            <a:ext cx="213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 Volca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" descr="http://www.volcano-facts.com/volcano-wallpapers/volcano-wallpaper-1.jpg"/>
          <p:cNvPicPr/>
          <p:nvPr/>
        </p:nvPicPr>
        <p:blipFill>
          <a:blip r:embed="rId1"/>
          <a:stretch/>
        </p:blipFill>
        <p:spPr>
          <a:xfrm>
            <a:off x="0" y="1981080"/>
            <a:ext cx="66294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A high, flat landform that rises steeply above the surrounding land is 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2057040" y="2057400"/>
            <a:ext cx="4419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ste image he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6"/>
          <p:cNvSpPr/>
          <p:nvPr/>
        </p:nvSpPr>
        <p:spPr>
          <a:xfrm>
            <a:off x="6781680" y="350532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latea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2" descr="http://t1.gstatic.com/images?q=tbn:ANd9GcQC2MzRfjWuWRTADLE7ol1PR55-3b8kVbZ-YsP7_nz0uQLhZWSd"/>
          <p:cNvPicPr/>
          <p:nvPr/>
        </p:nvPicPr>
        <p:blipFill>
          <a:blip r:embed="rId1"/>
          <a:stretch/>
        </p:blipFill>
        <p:spPr>
          <a:xfrm>
            <a:off x="0" y="2133720"/>
            <a:ext cx="670572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16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lat, low-lying land built up from soil carried downstream by a river and deposited at its mouth is?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2057040" y="2895480"/>
            <a:ext cx="441972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Box 6"/>
          <p:cNvSpPr/>
          <p:nvPr/>
        </p:nvSpPr>
        <p:spPr>
          <a:xfrm>
            <a:off x="6781680" y="350532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l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2" descr="http://www.geo.uu.nl/fg/palaeogeography/pictures/delta_evolution/delta.jpg"/>
          <p:cNvPicPr/>
          <p:nvPr/>
        </p:nvPicPr>
        <p:blipFill>
          <a:blip r:embed="rId1"/>
          <a:stretch/>
        </p:blipFill>
        <p:spPr>
          <a:xfrm>
            <a:off x="0" y="1981080"/>
            <a:ext cx="650556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 huge sheet of ice that moves slowly across the land is ?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2057040" y="2057400"/>
            <a:ext cx="4419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ste image he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Box 6"/>
          <p:cNvSpPr/>
          <p:nvPr/>
        </p:nvSpPr>
        <p:spPr>
          <a:xfrm>
            <a:off x="6781680" y="350532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lac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" descr="http://www.travel-china.net/imagesen/new/1/rongpo-glacier1.jpg"/>
          <p:cNvPicPr/>
          <p:nvPr/>
        </p:nvPicPr>
        <p:blipFill>
          <a:blip r:embed="rId1"/>
          <a:stretch/>
        </p:blipFill>
        <p:spPr>
          <a:xfrm>
            <a:off x="0" y="1600200"/>
            <a:ext cx="68580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a very dry area where few plants grow is ?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2057040" y="2057400"/>
            <a:ext cx="4419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6"/>
          <p:cNvSpPr/>
          <p:nvPr/>
        </p:nvSpPr>
        <p:spPr>
          <a:xfrm>
            <a:off x="6781680" y="3505320"/>
            <a:ext cx="2133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5"/>
          <p:cNvSpPr/>
          <p:nvPr/>
        </p:nvSpPr>
        <p:spPr>
          <a:xfrm>
            <a:off x="7010280" y="35812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se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2" descr="http://www.blueplanetbiomes.org/images/dry_desert.jpg"/>
          <p:cNvPicPr/>
          <p:nvPr/>
        </p:nvPicPr>
        <p:blipFill>
          <a:blip r:embed="rId1"/>
          <a:stretch/>
        </p:blipFill>
        <p:spPr>
          <a:xfrm>
            <a:off x="0" y="1600200"/>
            <a:ext cx="69343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1T16:10:56Z</dcterms:created>
  <dc:creator>BHISD</dc:creator>
  <dc:description/>
  <dc:language>en-US</dc:language>
  <cp:lastModifiedBy>BHISD</cp:lastModifiedBy>
  <dcterms:modified xsi:type="dcterms:W3CDTF">2011-09-28T16:14:28Z</dcterms:modified>
  <cp:revision>17</cp:revision>
  <dc:subject/>
  <dc:title>An body of water of land completely sur</dc:title>
</cp:coreProperties>
</file>